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9E8-4D96-43B5-996C-55D5DF4E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BE9-3F2B-44B2-98B2-AE16331C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86F-5D4E-4B75-98DB-F287BF24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68D-D9C6-41FF-AC6B-EA8B06A4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A1A-7F85-4DAD-A253-F55478F0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BD7-689D-427E-9C9B-FAE889E1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CF70-3B23-4EB5-8F0C-82AC688D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808-6E01-4BD3-ADE9-9EBA9B30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C72-A1E7-4155-AD8F-176BFB87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BEE-1529-401D-8BF5-BB24E769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897-638B-4019-B58A-EB2FECC0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9FC-30A5-44A9-BD66-82905E24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E64F-23A1-4545-A8C7-455F37A4E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vernadero-interior4" descr=""/>
          <p:cNvPicPr/>
          <p:nvPr/>
        </p:nvPicPr>
        <p:blipFill>
          <a:blip r:embed="rId2">
            <a:lum contrast="-52000"/>
          </a:blip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1268280"/>
            <a:ext cx="8064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CONSTRUCCIÓN DE UN  VIVERO PARA LA PLANTULACIÓN DE HIERBAS AROMÁTICAS, CONDIMENTÁRIAS Y MEDICI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430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LOCALIZACION GEOGRAF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Municipio de Cajicá Cundinamarca, vereda Chuntame Km. 3 vía Tabio cerca al Politécnico de la sabana centro. Limita al norte con el río, Frío al sur con la antigua Ciudadela, al oriente con la vía y al occidente con fincas aledañ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ZONA DE IMPACTO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La producción cubrirá el mercado local municipal, de plántulas aromáticas, con proyección de mercados cercanos como Zipaquirá, Cota, Chía, Tenjo, Tabio otros municipios de la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Los recursos de financiación de la implementación del proyecto provendrán de tres fuentes, que son: Alcaldía municipal de Cajicá, Aguas de Cajicá y Colegio Pompilio Martín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STRUCTURA ORGANIZ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El vivero será administrado por el Colegio con el acompañamiento técnico de aguas de Cajicá y la Alcaldía municip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5564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INDICADORES DE EVAL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lnSpc>
                <a:spcPct val="100000"/>
              </a:lnSpc>
              <a:spcBef>
                <a:spcPts val="799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Campañas de sensibilización ciudadana sobre el tema de reciclaje de residuos sól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just">
              <a:lnSpc>
                <a:spcPct val="100000"/>
              </a:lnSpc>
              <a:spcBef>
                <a:spcPts val="799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Capacitación técnica y empresarial sobre el tema de viv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Actividades de elaboración de abonos orgánicos, siembra de plantas, semilleros y pequeños proyectos relacionados con el te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82072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3300"/>
                </a:solidFill>
                <a:latin typeface="Times New Roman"/>
              </a:rPr>
              <a:t>Gracia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VIVERO%20MUNICIPAL.%203JPG" descr=""/>
          <p:cNvPicPr/>
          <p:nvPr/>
        </p:nvPicPr>
        <p:blipFill>
          <a:blip r:embed="rId2">
            <a:lum contrast="-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432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981000"/>
            <a:ext cx="8137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Construcción de un vivero para la plantulación de hierbas aromáticas, medicinales y condimentarias, en el municipio de Cajicá (Cundinamarca), en las instalaciones del Politécnico, dadas en comodato al colegio Pompilio Martínez, con el fin de contribuir a la especialidad de Gestión Ambiental; aprovechando así la preparación que los estudiantes han obtenido en diferentes actividades y capacitaciones con AGUAS DE CAJICA, el SENA y con docentes de la misma Institución.  El proyecto  además está enmarcado en los lineamientos de proyectos productivos que se están realizado en la Alcaldía Municip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Este proyecto es liderado por estudiantes del Colegio Pompilio Martínez, del grado décimo, que realizaron el curso de viveristas del programa de jóvenes rurales del SE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26028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DESCRIPC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0920" y="-360"/>
            <a:ext cx="8642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JUSTIF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550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99"/>
                </a:solidFill>
                <a:latin typeface="Arial"/>
                <a:ea typeface="Arial"/>
              </a:rPr>
              <a:t>Las aromáticas son las plantas más viables para entrar en el mercado local para  competir y tener sostenibilida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550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99"/>
                </a:solidFill>
                <a:latin typeface="Arial"/>
                <a:ea typeface="Arial"/>
              </a:rPr>
              <a:t>Generar empresa y fortalecer los estudios que vistos en gestión empresari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550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99"/>
                </a:solidFill>
                <a:latin typeface="Arial"/>
                <a:ea typeface="Arial"/>
              </a:rPr>
              <a:t>Emplear los conocimientos prácticos enseñados en las clases de gestión ambiental y viverismo del SE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550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99"/>
                </a:solidFill>
                <a:latin typeface="Arial"/>
                <a:ea typeface="Arial"/>
              </a:rPr>
              <a:t>Este proyecto se adecua para realizar prácticas académicas en el vivero dado el énfasis del colegio Pompilio Martínez que es la gestión ambient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550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99"/>
                </a:solidFill>
                <a:latin typeface="Arial"/>
                <a:ea typeface="Arial"/>
              </a:rPr>
              <a:t>La utilización del terreno que se encuentra en comodato con la alcaldía Municipal de Cajicá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550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99"/>
                </a:solidFill>
                <a:latin typeface="Arial"/>
                <a:ea typeface="Arial"/>
              </a:rPr>
              <a:t>Por que la medicina natural es la más utilizada por la población en remedios caser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550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99"/>
                </a:solidFill>
                <a:latin typeface="Arial"/>
                <a:ea typeface="Arial"/>
              </a:rPr>
              <a:t>La construcción de un vivero se adecua a las necesidades que presentan los proyectos productivos que se están llevando a cabo en la oficina de asistencia técnica agropecuaria y ambiental de la Alcaldía Municipal De Cajicá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777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ARCO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Este proyecto está siendo llevado a cabo por tres entes, que son el Colegio Pompilio Martínez, Aguas de Cajicá y la Alcaldía Municipal de Cajic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El proceso logístico será realizado por los estudiantes con la asesoría de la oficina de asistencia técnica agropecuaria y ambiental de la Alcaldía Municipal De Cajic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Los recursos para que este vivero sea construido serán aportados por los tres entes en partes ig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Una vez en funcionamiento el vivero, será responsabilidad del colegio la administración del m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94920" y="490320"/>
            <a:ext cx="82090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IMP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El impacto se da en tres niveles, com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Estudiantes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: en el colegio el impacto esta dado por las prácticas y en la creación de conciencia en su comunidad, además de ser una herramienta multidisciplinaría que se puede usar para la formación en diferentes á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Población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: en el municipio afectara a habitantes brindándoles la producción del vivero, ya que este es muy apetecido para su consum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Arial"/>
                <a:ea typeface="Arial"/>
              </a:rPr>
              <a:t>Productores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: a este grupo le presta el servicio de plantulación para sus cul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0000" y="901440"/>
            <a:ext cx="73440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OBJETIVO GENE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Arial"/>
              </a:rPr>
              <a:t>Construir un vivero, que provea de plántulas al municipio, para la producción de aromáticas, condimentarías y medicinales, además que sirva de espacio de practica pedagógica para los estudiantes del colegio Pompilio Martíne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OBJETIVOS ESPECIFICO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Utilizar el espacio dado en comodato al colegio, como un ámbito de practica para los estudiantes del mismo, siendo productivo y autososten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iembra de plántulas para proveer el cultivo que se hará en el espacio restante del comod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Crear una empresa a partir de la iniciativa de los mismos estud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Utilizar el vivero como una herramienta pedagógica que puede ser utilizada en las diferentes áreas del cono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Contribuir a la formación ambiental de los estudiantes del coleg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Plantular especies nativas en el fut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SOCIALIZACIÓN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 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En todas las etapas de la implementación del vivero, se pretende tener un apoyo constante de la comunidad Cajiqueña, representada principalmente por los pequeños productores de aromáticas del municipio y por la comunidad educativa del Colegio Pompilio Martínez, usando como medio la presentación del proyecto de forma directa en reuniones y semi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ENEFICIARIOS</a:t>
            </a:r>
            <a:br>
              <a:rPr sz="2400"/>
            </a:b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Toda la población a la cual se les va a ofrecer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Los estudiantes y autoridades involucrados en el proyect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Afectara a 1820 estudiantes del colegio, dándoles un espacio para hacer sus prác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Beneficiara inicialmente a 20 familias productoras de aromáticas, proveyendo plántulas a bajo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66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Beneficiara a la comunidad municipal dando medios de producción más económicos para los productores, situación que provoca la circulación de capital dentro del municip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0:23:37Z</dcterms:created>
  <dc:creator>USUARIO</dc:creator>
  <dc:description/>
  <dc:language>en-US</dc:language>
  <cp:lastModifiedBy>USUARIO</cp:lastModifiedBy>
  <dcterms:modified xsi:type="dcterms:W3CDTF">2006-06-05T13:05:59Z</dcterms:modified>
  <cp:revision>9</cp:revision>
  <dc:subject/>
  <dc:title>Presentación de PowerPoint</dc:title>
</cp:coreProperties>
</file>